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169-90E3-4480-8049-9A8996D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165A-AEA8-4FD8-B6AD-3D0BF31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6E2-F70E-4749-8AEC-59CA6C92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800-E64B-4641-AE6F-615BA50D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F39-E30B-4FDF-8E36-5C95018A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6D50-F58B-430B-8C61-4705D0A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20D-50B1-4464-98F2-FEF2EA3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4E7-5058-470E-BBE0-6AF95BD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74B3-7CB1-486E-9815-3303966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685-A0BD-42DD-A0DE-7CE6097C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17B-C345-45CB-B7FA-B2F9B245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A34-6D04-4F5F-A982-8679C0EA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0B6-39DF-4442-9860-05646222C61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5CC1-CAD1-4CE5-B1D7-74099A777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Fiber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mode Graded-Index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le higher bandwidths and/or longer lengths of transmission before pulse dispersion effects destroy intelligibility and introduce bit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gle-Mode Fib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s only low-order mode allowing operation in high-data-rate, long-distance syst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high-power, highly directional modulated light sources (lase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 Industry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2: Multimode Classifications (by the Refractive Index Profile and Composi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2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Multimode Classifications (by the Refractive Index Profile and Composition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tab16_02.jpg"/>
          <p:cNvPicPr/>
          <p:nvPr/>
        </p:nvPicPr>
        <p:blipFill>
          <a:blip r:embed="rId1"/>
          <a:stretch/>
        </p:blipFill>
        <p:spPr>
          <a:xfrm>
            <a:off x="228600" y="1631880"/>
            <a:ext cx="868680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 Industry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See Table 16-3: Single-Mode Classif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3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ingle-Mode Classifica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2" descr="tab16_03.jpg"/>
          <p:cNvPicPr/>
          <p:nvPr/>
        </p:nvPicPr>
        <p:blipFill>
          <a:blip r:embed="rId1"/>
          <a:stretch/>
        </p:blipFill>
        <p:spPr>
          <a:xfrm>
            <a:off x="228600" y="1830240"/>
            <a:ext cx="868680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tional Electrotechnical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4: Generalized Comparisons of Single-Mode and Multimode Fi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4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Generalized Comparisons of Single-Mode and Multimode Fiber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2" descr="tab16_04.jpg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tic Optical F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in short-range marke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of power introduced by fib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from combination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ttering, absorption, macrobending, microbend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-optic communications syste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-optic transmission str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of invisible infrared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sensitive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icient optical connectors at light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broadening; light pulse spreads out in time as it propagates along fiber str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5: Dispersion Values for Common Optical Wavelengths for Class IVa Fi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5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Dispersion Values for Common Optical Wavelengths for Class IVa Fiber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tab16_05.jpg"/>
          <p:cNvPicPr/>
          <p:nvPr/>
        </p:nvPicPr>
        <p:blipFill>
          <a:blip r:embed="rId1"/>
          <a:stretch/>
        </p:blipFill>
        <p:spPr>
          <a:xfrm>
            <a:off x="457200" y="1878120"/>
            <a:ext cx="822960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ominantly in multimode fib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ro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gle-mode and multimode fib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ization m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gle-mode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 Compens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s like equalizer, negative dispersion canceling positive disper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ode laser (D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for moderate-band to wideband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for single-mode fiber; LEDs have low input coupling effici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aper; less-complex driving circuitry than D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th LEDs and DLs multilayer devi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 emitted from ED result of recombining of electrons and ho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ng the Light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-optic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pulse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mediate Com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nching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li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pl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length division multiplex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-line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pplications: detector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-i-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i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lanche photodiode also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e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al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7: A Comparison of Det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Optical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emely wide system band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ity to electrostatic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mination of cross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signal attenuation than oth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lighter weight and smaller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7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A Comparison of Detector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tab16_07.jpg"/>
          <p:cNvPicPr/>
          <p:nvPr/>
        </p:nvPicPr>
        <p:blipFill>
          <a:blip r:embed="rId1"/>
          <a:stretch/>
        </p:blipFill>
        <p:spPr>
          <a:xfrm>
            <a:off x="228600" y="603360"/>
            <a:ext cx="868680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Connections and Splic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tical fiber ultrapure glass; joined in permanent fusion splice or with conn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sion spli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-term method; two fibers fused or weld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Connections and Splic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chanical spl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manent/economical choice for fiber-splicing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onnector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6-8: General Fiber Connector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8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General Fiber Connector Requiremen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tab16_08.jpg"/>
          <p:cNvPicPr/>
          <p:nvPr/>
        </p:nvPicPr>
        <p:blipFill>
          <a:blip r:embed="rId1"/>
          <a:stretch/>
        </p:blipFill>
        <p:spPr>
          <a:xfrm>
            <a:off x="228600" y="2097000"/>
            <a:ext cx="868680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stem Design and Operation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g-haul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channel density and bit rate, highly reliable, incorporate redundant equipment, extensive engineering stud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s (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channel capacity and minimal redundance; prespecified and preengineered as to length, bit-rate capability,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stem Design and Operation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mode, long-haul, high-bit-rate consi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bling and Constr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ior (Outdoor) Instal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 instal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es, underground in ducts, utility tunnels, direct burial; be aware of exposur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ior (Indoor) Instal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 well contro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bling and Constr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ing the Fiber Instal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time-domain reflectometer (OT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ds light pulse down fiber; measures reflected lig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ng Optical Net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optical network (SON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dard for long-haul optical transport of telecommunications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9: SONET Hierarchy Data R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9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SONET Hierarchy Data Rat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3" descr="tab16_09.jpg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Optical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o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ng Optical Net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 to the home (FTT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st-effective way to provide large-bandwidth capabilities to h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10: Ethernet/Fiber Numer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10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Ethernet/Fiber Numeric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2" descr="tab16_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r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tion of laser energy through atmosphere, a line-of-sight technique uses parabolic lens to focus laser energy in narrow be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Distributed Data Interf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National Standards Institute (ANSI) developed Fiber Distributed Data Interface (FDDI); utilizes two 100-Mbps token-passing r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light propagates through fiber, factors will attenuate light if there is an open or brea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ware of eye dama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s can increase optical power at exposed fiber en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fety factors for both fiber optic equipment and the mechanic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ll cases, be sure craft personnel have proper training for the job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should be able 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a fiber link showing all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the optical power me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rise-time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oubleshoot fiber-optic data lin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raction of l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tion as light passes into denser material; causes light wave to be b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ed reduction and refraction different for each wavelengt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sible light striking pr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raction at both air/glass interfaces; separates light into its various frequencies (colo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ount of bend by refraction depends on refractive index of two materials inv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rared light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light waves below frequencies in visible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tical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from infrared on u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ction of the Fiber Str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s transmitted lig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d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terial surrounding 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tic coating surrounds cladding to provide pro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iteria for Choice of Fiber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losses, with respect to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e of light coupling and interconn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mode Step-Index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rely used in telecommunications; very high amounts of pulse dispersion; minimal bandwidth capabi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59:58Z</dcterms:modified>
  <cp:revision>4</cp:revision>
  <dc:subject/>
  <dc:title>Slide 1</dc:title>
</cp:coreProperties>
</file>